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63C-6F80-4B58-A2BE-AAA2A6BD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2C7-B5AB-472B-9926-3A9F977F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311-ADE7-4DAC-A057-DF1F8B9A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B90-CFF2-4638-89C4-615AAE5E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C877-0E38-4F45-A97C-1A6017B2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CF90-AAC9-4A24-8085-4BEDB6FC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4A74-84C7-4E62-9C88-1C50718B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F99F-AEBC-4FBD-BD6E-047509FE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F9AF-65F5-4E77-A787-5A8B1545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813C-26BF-4858-B91C-8C7F44BD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7DAB-7798-4F74-8DA0-BEDCA953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60A-8921-4818-9118-8A726F7D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0040-61A4-4501-8A09-82AD6FCF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8AA5-F328-4BD4-9CF1-CA9E3466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1AB6-7C23-448B-9FC0-FC246A98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E762-D2D2-41C5-876D-424A3068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67EF-7D55-43D2-844F-E63714BC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0CC-9231-4E45-A209-C969AE32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0D8-16F8-4B4F-AE4A-969133E8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065-9125-411E-A344-07CEA1D6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B6C-8C90-4F25-BA25-3D2A674E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48E-BE2F-40E3-86DE-5556BAD0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6E2-682E-4300-8802-30EA0741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526A-BB24-4ADB-88F0-46844ECF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1CB5-1B9F-4001-89DF-2BB78305D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E92D-1152-46E5-AFF4-C98E13123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 Need More Evidence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00200" y="34286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Purpos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  Prove to yourself that Earth’s continents really are moving apar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ain What You Observ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do to the wa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 water chan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all of this relate to the way the water mov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relate to the movement of the Earth’s Cru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y Does This Motion Occur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Convection Currents (Hypothesis)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The movement of materials due to differences in temperature.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High Temp=Higher Energy=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Spread Out=Less Dense=Float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Low Temp=Lower Energy= Condense=More Dense= Sink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Continents get Carried Aw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037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What Happens When the Plates Move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arthquak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untain Build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ut Why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ease discuss some ideas for why the movement of Earth’s plates leads to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rthquak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unta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bout A Vide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Forget About Tomorrow’s Lunch Tim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06856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ust No One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 far you have heard three pieces of evidence suggesting that Earth continents are mov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mal Fossi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nt Fossi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ndfo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is that good enough?  What do you thin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 a SKEPTIC, discuss other explanations for these so called pieces of evid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Some more evidence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ne good thing about scientists is that they don’t give up until they find the truth.  (At least the good, honest, and true scientists don’t.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, let us see what they came up with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idence 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542160" indent="-54216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I am going to show you two videos discussing scientific evidence that the continents are moving.  Please answer the following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Describe in detail what the scientists observed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ere did they observe it?  How big was it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at evidence did they find proving that what they observed was the cause of the continents moving apart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421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a-Floor Spread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pieces of evidence suggested that the continents of Africa &amp; S. America had been attach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those pieces of evidence did not explain HOW they MOVED APA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-Floor Spreading provides a cause for the movement of the contin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Sea-Floor Spreading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d-Atlantic Ri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Hi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,000 Miles Lo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of larger 50,000 mile world-wide underwater mountain ch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e of rocks get older the further you get from the ridge AND younger the closer you get to the ri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SO…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sea-floor is spreading, does that mean the Earth is getting larg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ose a side, either yes or no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e up with some ideas to support your choi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en the Earth Recycles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Times New Roman"/>
              </a:rPr>
              <a:t>Subductio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The Process through which the crust plunges back into the Earth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ome absorbed by Mantle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ome forced upward becoming…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Mountai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bout A Demonstration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 call you to the front.  10 at a time.  While I am calling groups up please read pages 383-385.  Take No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51:35Z</dcterms:created>
  <dc:creator>Student</dc:creator>
  <dc:description/>
  <cp:keywords/>
  <dc:language>en-US</dc:language>
  <cp:lastModifiedBy>Student</cp:lastModifiedBy>
  <dcterms:modified xsi:type="dcterms:W3CDTF">2008-11-06T20:49:20Z</dcterms:modified>
  <cp:revision>7</cp:revision>
  <dc:subject/>
  <dc:title>We Need More Evidenc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71033</vt:lpwstr>
  </property>
</Properties>
</file>