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E6B-6914-46DC-AACD-EB21CA92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1D4-9C5F-48E5-A4CB-88A8039D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D58-06D4-4EBB-A0A0-6C0A598D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971-4339-43AA-BD19-0C9A0FC4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C11E-D2C5-49CA-B0AB-80E4F8A1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48AF-8C58-4795-B047-C561194C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A755-1042-4B68-8681-1788739F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50F2-70E7-4E6F-B0A1-9C4C6A4A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04E4-897E-448B-8B68-0026AF5D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8163-581B-47CD-B7E6-F5ED3282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8D6E-5699-4346-B7E6-CF22393C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CBB-7347-4BB5-8367-AE8ED743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17EC-4666-41DE-9EA0-6FE76189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D8D8-0E42-4DB1-ABFF-7D46B14B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5057-9CF0-4E67-9CAF-7133D8EC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960E-F7F7-48BF-A000-E78E8B4E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C924-67DC-44E9-9D14-67E904D1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3E8-E177-4236-BF5D-C41950FB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9A4-D865-4FBE-B940-FD4D02D5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DF2-1E67-495F-B8E4-22BF2E3E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1418-97AF-4867-9E6D-6FDAB9A0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52B-DF0C-45FE-A58E-F18327DF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188-F4F8-4203-92E2-AF2BDC5B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56D-93B1-40E2-92B9-5C50269F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5276-9AAB-4ABD-A074-B74CB8962A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A154-A8B7-4CA6-9289-56D354D3E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 Need More Evidence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00200" y="34286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Purpos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  Prove to yourself that Earth’s continents really are moving apar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ain What You Observ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do to the wa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 water chan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all of this relate to the way the water mov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relate to the movement of the Earth’s Cru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y Does This Motion Occur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Convection Currents (Hypothesis)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The movement of materials due to differences in temperature.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High Temp=Higher Energy=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Spread Out=Less Dense=Float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Low Temp=Lower Energy= Condense=More Dense= Sink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Continents get Carried Aw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037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What Happens When the Plates Move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arthquak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untain Build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ut Why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ease discuss some ideas for why the movement of Earth’s plates leads to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rthquak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unta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bout A Vide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Forget About Tomorrow’s Lunch Tim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06856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ust No One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 far you have heard three pieces of evidence suggesting that Earth continents are mov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mal Fossi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nt Fossi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ndfo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is that good enough?  What do you thin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 a SKEPTIC, discuss other explanations for these so called pieces of evid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Some more evidence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ne good thing about scientists is that they don’t give up until they find the truth.  (At least the good, honest, and true scientists don’t.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, let us see what they came up with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idence 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542160" indent="-54216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I am going to show you two videos discussing scientific evidence that the continents are moving.  Please answer the following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Describe in detail what the scientists observed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ere did they observe it?  How big was it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at evidence did they find proving that what they observed was the cause of the continents moving apart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421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a-Floor Spread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pieces of evidence suggested that the continents of Africa &amp; S. America had been attach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those pieces of evidence did not explain HOW they MOVED APA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-Floor Spreading provides a cause for the movement of the contin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Sea-Floor Spreading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d-Atlantic Ri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Hi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,000 Miles Lo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of larger 50,000 mile world-wide underwater mountain ch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e of rocks get older the further you get from the ridge AND younger the closer you get to the ri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SO…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sea-floor is spreading, does that mean the Earth is getting larg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ose a side, either yes or no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e up with some ideas to support your choi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en the Earth Recycles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Times New Roman"/>
              </a:rPr>
              <a:t>Subductio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The Process through which the crust plunges back into the Earth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ome absorbed by Mantle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ome forced upward becoming…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Mountai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bout A Demonstration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 call you to the front.  10 at a time.  While I am calling groups up please read pages 383-385.  Take No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51:35Z</dcterms:created>
  <dc:creator>Student</dc:creator>
  <dc:description/>
  <cp:keywords/>
  <dc:language>en-US</dc:language>
  <cp:lastModifiedBy>Student</cp:lastModifiedBy>
  <dcterms:modified xsi:type="dcterms:W3CDTF">2008-11-06T20:49:20Z</dcterms:modified>
  <cp:revision>7</cp:revision>
  <dc:subject/>
  <dc:title>We Need More Evidenc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71033</vt:lpwstr>
  </property>
</Properties>
</file>