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433A-E6DA-4B28-AC82-895F45DB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DFB-36A5-42EE-A9CF-B5375A34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9CD5-B518-4DB7-A999-F7E2C314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A93-E09C-411D-BE07-0F4E138F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EBB1-7F25-495E-B0DE-5C046CAA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E637-C48F-4A2E-84BF-AF68EDC1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0E2E-4696-4550-8BAE-7C37F65E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2081-03CE-45C3-9A63-4820A076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A6AB-B8C6-4D1E-B55A-488E3956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9AA3-29E3-4313-BEF2-DEF38EBD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CDAE-E383-4E4E-9498-7A3A2E6A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4062-3C1C-403B-83B0-F1B9000F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853B-059C-4099-BC42-26479EBF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9F53-D795-49C2-AC09-FF66339A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7B8A-2CB2-4719-BC53-E21F82F3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6E25-0D57-4BA5-B5A7-F7E15118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9511-4CA2-4BD8-8972-3765B776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024-8764-427E-9648-35EF97E0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88D-EDD1-487C-ABEB-3E794D88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F5BE-AD49-4082-818C-0C33A333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F9C-8296-4559-86D4-62A30755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EDA3-D838-44E7-99CE-01D5ACD0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B58-A5D5-453A-8C58-BB60E5DD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589B-6069-43BB-B775-DD234D94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75F4-DDFA-4D87-8CDE-F671AD7AE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0914-A3DC-4EBD-8E2F-DA936DE4F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 Need More Evidence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600200" y="34286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Purpos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:  Prove to yourself that Earth’s continents really are moving apar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plain What You Observ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it do to the wa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e water chan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all of this relate to the way the water mov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is relate to the movement of the Earth’s Cru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y Does This Motion Occur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Convection Currents (Hypothesis)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The movement of materials due to differences in temperature.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High Temp=Higher Energy=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0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Spread Out=Less Dense=Float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Low Temp=Lower Energy= Condense=More Dense= Sink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Continents get Carried Awa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037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What Happens When the Plates Move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arthquak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Volcano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ountain Build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ut Why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lease discuss some ideas for why the movement of Earth’s plates leads to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rthquak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cano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unta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w About A Video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Forget About Tomorrow’s Lunch Time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206856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ust No One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 far you have heard three pieces of evidence suggesting that Earth continents are mov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imal Fossi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nt Fossi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ndfor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is that good enough?  What do you thin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 a SKEPTIC, discuss other explanations for these so called pieces of evid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bcbcb"/>
                </a:solidFill>
                <a:latin typeface="Times New Roman"/>
              </a:rPr>
              <a:t>Some more evidence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ne good thing about scientists is that they don’t give up until they find the truth.  (At least the good, honest, and true scientists don’t.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O, let us see what they came up with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vidence 1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542160" indent="-54216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I am going to show you two videos discussing scientific evidence that the continents are moving.  Please answer the following: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1640" indent="-474480">
              <a:spcBef>
                <a:spcPts val="8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Describe in detail what the scientists observed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1640" indent="-474480">
              <a:spcBef>
                <a:spcPts val="8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here did they observe it?  How big was it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1640" indent="-474480">
              <a:spcBef>
                <a:spcPts val="8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hat evidence did they find proving that what they observed was the cause of the continents moving apart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421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a-Floor Spread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pieces of evidence suggested that the continents of Africa &amp; S. America had been attach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those pieces of evidence did not explain HOW they MOVED APA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-Floor Spreading provides a cause for the movement of the contin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bcbcb"/>
                </a:solidFill>
                <a:latin typeface="Times New Roman"/>
              </a:rPr>
              <a:t>Sea-Floor Spreading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d-Atlantic Rid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Hi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2,000 Miles Lo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 of larger 50,000 mile world-wide underwater mountain ch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ge of rocks get older the further you get from the ridge AND younger the closer you get to the rid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bcbcb"/>
                </a:solidFill>
                <a:latin typeface="Times New Roman"/>
              </a:rPr>
              <a:t>SO…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the sea-floor is spreading, does that mean the Earth is getting larg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ose a side, either yes or no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e up with some ideas to support your choi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ven the Earth Recycles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ffffff"/>
                </a:solidFill>
                <a:uFillTx/>
                <a:latin typeface="Times New Roman"/>
              </a:rPr>
              <a:t>Subduction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9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The Process through which the crust plunges back into the Earth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ome absorbed by Mantle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ome forced upward becoming…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Volcanoe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Mountai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w About A Demonstration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will call you to the front.  10 at a time.  While I am calling groups up please read pages 383-385.  Take No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23:51:35Z</dcterms:created>
  <dc:creator>Student</dc:creator>
  <dc:description/>
  <cp:keywords/>
  <dc:language>en-US</dc:language>
  <cp:lastModifiedBy>Student</cp:lastModifiedBy>
  <dcterms:modified xsi:type="dcterms:W3CDTF">2008-11-06T20:49:20Z</dcterms:modified>
  <cp:revision>7</cp:revision>
  <dc:subject/>
  <dc:title>We Need More Evidence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71033</vt:lpwstr>
  </property>
</Properties>
</file>