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36585-BE77-40F4-8C49-E1E170E40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3DF1A-B289-4B95-8658-29EB0D49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CF662-192A-438F-B1DD-6608C817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CFCFF-8EFE-400F-B155-9D10D235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3AAC-1D2D-489E-A7DB-6C805B49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DBC7-3CBB-4895-B234-BF0CE165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BC0E-3B76-4C60-AB78-12B1846C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D678-182B-466E-8D55-FE61FC5E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B4AA-883A-40C1-A4C6-AAD3C78F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861C-DF63-4F15-B108-1BB0BB7D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F77E-9C48-4D6A-9395-F5F161D3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2BFF2-26CB-4D69-AB84-ED9FF5BE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EDEE-3835-4BF9-A0F6-5D30B146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DDF8-6BFF-4362-8C6D-5EC51246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D12E-90E5-4189-89C3-198FC3E7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BAD2-E34F-48FD-BD0A-99ED87A4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7DBD-9075-481B-A1A8-7CEA8952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9103B-F0CE-4D83-BB2B-A8C7704E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9A8F6-85D8-48F2-B8FD-DA4FCCDF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699AB-2074-4B81-A761-EBE9347C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A75D2-294E-4F8F-9A46-BD3ACE2A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675B2-B47C-47F4-B60F-07206FC2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50A3D-139C-4BEA-9791-21BF6183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80D78-3E75-497F-8E85-A91023ED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076F-1397-45FE-8F75-A6D560A780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9529-09A4-4200-8979-BDA323A394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06668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Earth’s Dynamic Crus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800" y="3429000"/>
            <a:ext cx="6019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urpos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:  Learn how the Earth’s crust has slowly changed over time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soon!!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 your ha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eing is Believing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ease look at the map up on the wa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you notice any patter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think they form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driving force behind all of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atter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1430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st Coast of S. America seems to fit into the West Coast of Afr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uthern Coast of Arabian Peninsula fits into North-East Coast of Afr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s there any evidenc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990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you were a scientist, what would you look for to prove that these places were once connect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the fact that the LOOK like they fit together good enough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ainstorm, show me you are just as smart as any boring scientist out there!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-7668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Teachers are Idio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914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 in the day, many students said, “Hey teacher, it looks like South America and Africa fit together.  Did they used to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acher would respond, “Of course not.  The continents don’t move, it is just a coincid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they were wrong.  And the kids were righ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had NO EVID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0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Bones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About It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914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ssil 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ains of identical plant and animal species found on S. America and African Coa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t seeds too large to be carried by wind &amp; too fragile to survive ocean jour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 remains were of a fresh water creature that would not have survived salt water jour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Mesosauru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ffffff"/>
                </a:solidFill>
                <a:latin typeface="Arial"/>
              </a:rPr>
              <a:t>Glossopteri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6801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ck Solid Evidenc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ck Formations match on opposite sides of the Atlantic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0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untain Rang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0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al Deposi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0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lacial Deposi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22:57:56Z</dcterms:created>
  <dc:creator>Student</dc:creator>
  <dc:description/>
  <dc:language>en-US</dc:language>
  <cp:lastModifiedBy>Student</cp:lastModifiedBy>
  <dcterms:modified xsi:type="dcterms:W3CDTF">2008-10-21T03:11:20Z</dcterms:modified>
  <cp:revision>1</cp:revision>
  <dc:subject/>
  <dc:title>The Earth’s Dynamic Crust</dc:title>
</cp:coreProperties>
</file>