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37BC8-0DFA-4D0E-BC8B-28976784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AFC7-89EB-4C74-B03B-0F59A85E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BF75-2136-438B-A03D-59B95011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693E-6C7D-4121-805E-25C54959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6700-4E89-4106-B2B2-EA3557BC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28C1-7700-40F2-B533-F77C8647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0048-BB0A-44A9-B012-2E82085C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3E67-FE6A-42B9-9EAE-7753A46A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4D58-DD84-4E6B-971B-71B4B3B8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2F00-2A75-45A2-8AD3-E6CDE4C2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D3B8-B587-4DEE-AFC8-3AE01DB9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7D4C8-4941-48D3-AE9D-99A22EF6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B5E4-A53B-43BA-80D3-41006B86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6DF9-0931-4B18-87ED-8F403F03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8B84-5C88-4296-BFDE-66B47B38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EDAE-B869-4211-83C2-CF264BCA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D548-3E6C-48EE-9422-C05AD347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FF7D-57FC-437D-9DB7-3E6B4A5A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AFEC-3CDC-463C-B9A7-EFC95136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F8CA-728D-465B-827B-B9C27EAB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E888A-32EA-4285-8507-269F91A8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623C-5DB8-4E5B-B8ED-CC9A5A4B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B117-4E7F-44F7-B726-B3AA4256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971D8-E5D8-483E-9FED-47A7E313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93BB-4CF5-46D0-83C2-F0FC13B30C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A8CD-EBC2-4E3E-811C-35531457AB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06668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Earth’s Dynamic Crus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342900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:  Learn how the Earth’s crust has slowly changed over time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oon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 your h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ing is Believing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ease look at the map up on the wa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you notice any patter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think they form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riving force behind all of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tter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143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st Coast of S. America seems to fit into the West Coast of Afr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thern Coast of Arabian Peninsula fits into North-East Coast of Afr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s there any evidenc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990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were a scientist, what would you look for to prove that these places were once connect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 fact that the LOOK like they fit together good enoug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ainstorm, show me you are just as smart as any boring scientist out there!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766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Teachers are Idio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 in the day, many students said, “Hey teacher, it looks like South America and Africa fit together.  Did they used to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acher would respond, “Of course not.  The continents don’t move, it is just a coinc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they were wrong.  And the kids were righ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had NO EV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Bone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About It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sil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s of identical plant and animal species found on S. America and African Coa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 seeds too large to be carried by wind &amp; too fragile to survive ocean jour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remains were of a fresh water creature that would not have survived salt water jour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Mesosauru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ffffff"/>
                </a:solidFill>
                <a:latin typeface="Arial"/>
              </a:rPr>
              <a:t>Glossopteri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680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ck Solid Evid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ck Formations match on opposite sides of the Atlanti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untain Rang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al Depos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acial Depos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22:57:56Z</dcterms:created>
  <dc:creator>Student</dc:creator>
  <dc:description/>
  <dc:language>en-US</dc:language>
  <cp:lastModifiedBy>Student</cp:lastModifiedBy>
  <dcterms:modified xsi:type="dcterms:W3CDTF">2008-10-21T03:11:20Z</dcterms:modified>
  <cp:revision>1</cp:revision>
  <dc:subject/>
  <dc:title>The Earth’s Dynamic Crust</dc:title>
</cp:coreProperties>
</file>