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7ED4-CE14-42E5-96E8-A81BAEA1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DD6B-8841-4D43-9E32-3A39DE0B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467C-BAB3-4736-B18F-8E7F9C13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79F2-C0EC-4C09-A701-3070B5F4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94EB-161E-49F3-9559-F8E74658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A2C3-2537-4531-BAB7-B11D4DDA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EAEF-3C07-451A-ADC5-2AB905D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EBDB-558C-4C8B-B080-ADB5D3B0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4176-5679-473B-8A80-B0D9AB72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ED97-BEE2-4194-9085-FE3F6A7C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0F05-172A-484E-8D67-EF8E3320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8812-76BF-4949-8B4F-62A8094D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60B1-7241-48AF-AD78-AE6BEB9F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B23D-A279-4386-ADD8-136B605D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FAFE-196A-4318-A45E-BD20C606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A02C-7AF8-4621-BFB9-17ED5BC3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89E0-C385-4FA2-8FAD-4C3884AB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F792-86C7-4540-9F5A-70492A3C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F445-931A-4DE7-907A-B1AD5A06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2CCE-0B83-437E-B20E-09CDFDFB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BB9B-7443-41AF-88C9-90B87A10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BD02-DDCE-498A-857D-13753CD4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21B3-DDB0-4195-8BF0-83561A4E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6B66-BD28-45FD-A36B-22889C40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DAC9-1235-438B-8CC7-AD5836E285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E4AE-2DF3-4B69-9EB7-1414075DA9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0666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Earth’s Dynamic Cru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342900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 Learn how the Earth’s crust has slowly changed over ti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oon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 your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ing is Believing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ease look at the map up on the w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notice any patte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think they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riving force behind all of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tter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14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st Coast of S. America seems to fit into the We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thern Coast of Arabian Peninsula fits into North-Ea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there any evidenc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were a scientist, what would you look for to prove that these places were once connec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fact that the LOOK like they fit together goo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ainstorm, show me you are just as smart as any boring scientist out there!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766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Teachers are Idio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 the day, many students said, “Hey teacher, it looks like South America and Africa fit together.  Did they used to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cher would respond, “Of course not.  The continents don’t move, it is just a coinc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they were wrong.  And the kids were r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had NO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Bon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About It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of identical plant and animal species found on S. America and African Coa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 seeds too large to be carried by wind &amp; too fragile to survive ocean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emains were of a fresh water creature that would not have survived salt water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Mesosaur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Glossopter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 Solid Evid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ck Formations match on opposite sides of the Atlant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untain Rang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aci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22:57:56Z</dcterms:created>
  <dc:creator>Student</dc:creator>
  <dc:description/>
  <dc:language>en-US</dc:language>
  <cp:lastModifiedBy>Student</cp:lastModifiedBy>
  <dcterms:modified xsi:type="dcterms:W3CDTF">2008-10-21T03:11:20Z</dcterms:modified>
  <cp:revision>1</cp:revision>
  <dc:subject/>
  <dc:title>The Earth’s Dynamic Crust</dc:title>
</cp:coreProperties>
</file>