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303C-890E-4D98-B04A-153E2696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742E-8A2F-4F58-8BFF-FF01E3CA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A2AA-18AC-4A4C-9748-7D45C310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08D9-B276-4D49-A6BA-5508D26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206D-E6D1-47E1-923D-C9669CD6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A978-2973-4B35-873F-C6A4433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EC0-3D2E-4843-860A-DDE43EFF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747-944A-4446-9FD3-F1039F5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ED95-40B6-4332-B1C8-553C6D6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7A10-C63F-425E-864F-F904FAA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3089-E3C5-40D1-A57A-CDE62C91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94C8-0992-43A6-95C7-7EDEC317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6149-B471-4F12-97F1-B5A8094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DC62-14D2-447F-8DE0-55D49B7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49EE-7327-4A46-A712-7232FB8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CC4-52A2-46D0-BAEE-AA724DF0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254-4297-4D9A-95F8-4739BFC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79EA-778E-49C7-9CBE-1356548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2FE8-5D35-43AA-B7F8-DA26E21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135E-9957-480E-A84A-DD70EF6C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A041-2CB0-4A7C-B6F8-CDCD29B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4DA3-85C7-4A9C-89B8-58A61CC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490A-2DF1-46D2-AB4C-15D8B92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8B7D-C758-475E-977B-6C1CFC91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FC12-9DE0-4349-9582-7187040D4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0EE-AA5F-40FF-92FE-9EB298581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066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arth’s Dynamic Cru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34290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Learn how the Earth’s crust has slowly changed over ti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on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 you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ing is Believ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look at the map up on the w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notice any patt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think they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riving force behind all of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st Coast of S. America seems to fit into the We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ern Coast of Arabian Peninsula fits into North-Ea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there any evid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ere a scientist, what would you look for to prove that these places were once conn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fact that the LOOK like they fit together goo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, show me you are just as smart as any boring scientist out there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766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Teachers are Idio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 the day, many students said, “Hey teacher, it looks like South America and Africa fit together.  Did they used t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would respond, “Of course not.  The continents don’t move, it is just a coinc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y were wrong.  And the kids were 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had NO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Bon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About It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f identical plant and animal species found on S. America and African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 seeds too large to be carried by wind &amp; too fragile to survive ocean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mains were of a fresh water creature that would not have survived salt water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Mesosaur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Glossopter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 Solid Evid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ck Formations match on opposite sides of the Atlant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Rang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aci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2:57:56Z</dcterms:created>
  <dc:creator>Student</dc:creator>
  <dc:description/>
  <dc:language>en-US</dc:language>
  <cp:lastModifiedBy>Student</cp:lastModifiedBy>
  <dcterms:modified xsi:type="dcterms:W3CDTF">2008-10-21T03:11:20Z</dcterms:modified>
  <cp:revision>1</cp:revision>
  <dc:subject/>
  <dc:title>The Earth’s Dynamic Crust</dc:title>
</cp:coreProperties>
</file>