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AD28-9500-4855-B987-4BACE9E2F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8BA6-692E-4224-AC6D-C9EED8A0F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5A9B-2FF6-45B4-BDAF-1CB98B61E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104E-34F7-4E3D-AD26-3933B21CD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A3B5B-BC3E-479F-A782-69BC18DA5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084FA-5315-48DA-9C5B-1C479833F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69053-807F-4A4E-8988-1643EC6BB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BCAE3-B9DB-4D81-AF5B-2DD786802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017C1-45CD-40FB-B162-D0ECBABFD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7DA5C-E6EB-4E36-9F6B-9C64F13AA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D8DCB-06EC-4193-9A9B-D0BB49E2F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8AC4-7622-4CAD-8021-94B53A820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3E723-A8C6-4AD0-8BEF-DAB162B94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75F9F-04CD-46B2-A674-9DE3EF38D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A2DF8-7976-4DBE-8EC1-B892C35A8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8B870-54EC-433C-B0A3-C308E7459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98F15-6E8F-40F7-AD64-0E4933413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1D73-B69F-474E-9BC6-44D740266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28EA-EEAD-4E73-B252-3F51C9F43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A0BC-4C77-42ED-82C0-AB9F6A3DA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5210-BDDF-4CD2-B4AB-64C2BE43F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460E-CA46-4C68-B2DC-A1F62405B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690D-D5EC-44F4-86DB-2FCBFDE69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F598-B8BC-4504-AB46-B42A3848D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518C1-57A3-40FD-A835-D5EBD004DA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415A9-65E6-459B-B642-22A0274A08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We Need More Evidence!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600200" y="3428640"/>
            <a:ext cx="723888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Purpose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:  Prove to yourself that Earth’s continents really are moving apar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Explain What You Observed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hea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es it do to the wat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oes the water chang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oes all of this relate to the way the water move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oes this relate to the movement of the Earth’s Crus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Why Does This Motion Occur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Times New Roman"/>
              </a:rPr>
              <a:t>Convection Currents (Hypothesis)</a:t>
            </a:r>
            <a:endParaRPr b="0" lang="en-US" sz="41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02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Times New Roman"/>
              </a:rPr>
              <a:t>The movement of materials due to differences in temperature.</a:t>
            </a:r>
            <a:endParaRPr b="0" lang="en-US" sz="41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1026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Times New Roman"/>
              </a:rPr>
              <a:t>High Temp=Higher Energy=</a:t>
            </a:r>
            <a:endParaRPr b="0" lang="en-US" sz="41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10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ffffff"/>
                </a:solidFill>
                <a:latin typeface="Times New Roman"/>
              </a:rPr>
              <a:t>Spread Out=Less Dense=Float</a:t>
            </a:r>
            <a:endParaRPr b="0" lang="en-US" sz="41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1026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Times New Roman"/>
              </a:rPr>
              <a:t>Low Temp=Lower Energy= Condense=More Dense= Sink</a:t>
            </a:r>
            <a:endParaRPr b="0" lang="en-US" sz="4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he Continents get Carried Awa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371600" y="762120"/>
            <a:ext cx="60372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What Happens When the Plates Move?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Earthquake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Volcanoe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Mountain Build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ut Why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lease discuss some ideas for why the movement of Earth’s plates leads to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11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arthquak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11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lcano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11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ountai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How About A Video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n’t Forget About Tomorrow’s Lunch Time Revie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28600" y="2068560"/>
            <a:ext cx="8763120" cy="44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ust No One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o far you have heard three pieces of evidence suggesting that Earth continents are movin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imal Fossi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lant Fossi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andform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UT is that good enough?  What do you think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e a SKEPTIC, discuss other explanations for these so called pieces of evidenc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bcbcb"/>
                </a:solidFill>
                <a:latin typeface="Times New Roman"/>
              </a:rPr>
              <a:t>Some more evidence</a:t>
            </a:r>
            <a:endParaRPr b="0" lang="en-US" sz="5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One good thing about scientists is that they don’t give up until they find the truth.  (At least the good, honest, and true scientists don’t.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O, let us see what they came up with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Evidence 1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542160" indent="-542160">
              <a:spcBef>
                <a:spcPts val="8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I am going to show you two videos discussing scientific evidence that the continents are moving.  Please answer the following: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lvl="1" marL="881640" indent="-474480">
              <a:spcBef>
                <a:spcPts val="8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Describe in detail what the scientists observed?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lvl="1" marL="881640" indent="-474480">
              <a:spcBef>
                <a:spcPts val="8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Where did they observe it?  How big was it?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lvl="1" marL="881640" indent="-474480">
              <a:spcBef>
                <a:spcPts val="8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What evidence did they find proving that what they observed was the cause of the continents moving apart?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54216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ea-Floor Spreading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ther pieces of evidence suggested that the continents of Africa &amp; S. America had been attach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ever, those pieces of evidence did not explain HOW they MOVED APAR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a-Floor Spreading provides a cause for the movement of the contine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bcbcb"/>
                </a:solidFill>
                <a:latin typeface="Times New Roman"/>
              </a:rPr>
              <a:t>Sea-Floor Spreading</a:t>
            </a:r>
            <a:endParaRPr b="0" lang="en-US" sz="5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d-Atlantic Rid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ile Hig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2,000 Miles Lo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art of larger 50,000 mile world-wide underwater mountain chai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ge of rocks get older the further you get from the ridge AND younger the closer you get to the ridg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bcbcb"/>
                </a:solidFill>
                <a:latin typeface="Times New Roman"/>
              </a:rPr>
              <a:t>SO…</a:t>
            </a:r>
            <a:endParaRPr b="0" lang="en-US" sz="6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f the sea-floor is spreading, does that mean the Earth is getting larg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oose a side, either yes or no.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me up with some ideas to support your choice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Even the Earth Recycles!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9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 u="sng">
                <a:solidFill>
                  <a:srgbClr val="ffffff"/>
                </a:solidFill>
                <a:uFillTx/>
                <a:latin typeface="Times New Roman"/>
              </a:rPr>
              <a:t>Subduction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spcBef>
                <a:spcPts val="9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imes New Roman"/>
              </a:rPr>
              <a:t>The Process through which the crust plunges back into the Earth.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-200880">
              <a:spcBef>
                <a:spcPts val="924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imes New Roman"/>
              </a:rPr>
              <a:t>Some absorbed by Mantle.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-200880">
              <a:spcBef>
                <a:spcPts val="924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imes New Roman"/>
              </a:rPr>
              <a:t>Some forced upward becoming…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lvl="3" marL="1407960" indent="-200880">
              <a:spcBef>
                <a:spcPts val="924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imes New Roman"/>
              </a:rPr>
              <a:t>Volcanoes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lvl="3" marL="1407960" indent="-200880">
              <a:spcBef>
                <a:spcPts val="924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imes New Roman"/>
              </a:rPr>
              <a:t>Mountains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How About A Demonstration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 will call you to the front.  10 at a time.  While I am calling groups up please read pages 383-385.  Take Not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6T23:51:35Z</dcterms:created>
  <dc:creator>Student</dc:creator>
  <dc:description/>
  <cp:keywords/>
  <dc:language>en-US</dc:language>
  <cp:lastModifiedBy>Student</cp:lastModifiedBy>
  <dcterms:modified xsi:type="dcterms:W3CDTF">2008-11-06T20:49:20Z</dcterms:modified>
  <cp:revision>7</cp:revision>
  <dc:subject/>
  <dc:title>We Need More Evidence!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071033</vt:lpwstr>
  </property>
</Properties>
</file>