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A86A-1683-4754-8B45-FA89DC2D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B5BE-0BCD-49EA-8512-670D158A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7E31-7E46-4CD1-B85F-BA71E4F7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036A-EC30-4C81-B18D-954AA097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CD10-0584-48A6-A981-C9883AD3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9428-DB74-4D55-8448-A903D651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AB2A-7910-4736-88F5-3937B2A7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51E0-A53D-451A-A38E-EBB61A0A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D1F0-7454-4A11-9A9A-B33D655E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344B-9B23-4784-ACBA-84485DC1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43CD-359B-4D71-B382-E2F8BD81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BCBE-9B71-4773-9D14-A71FCC0F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7703-6360-4A11-BA9F-A02C2299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1D5C-D8BB-4DD8-B467-BCE7A91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A1B5-E379-4DE8-BE22-5A189676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0D8E-FE0E-4555-A66B-80B4A7CF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23A1-398E-43F7-84FF-4B43867F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860F-F7F3-419C-9BA5-DCB0E819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ECCF-D301-4B36-B20A-5FA7AF4E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F813-9587-4C64-8E89-B2A6EDA1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3FA0-44FB-47CA-BF58-270056AF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0D50-84D3-499B-9C6F-B877236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1DDB-959A-4190-BD64-22C2A94D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C632-77EA-45CF-9EFA-DCA2410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2C0B-5559-48A3-B51D-DAF445B44B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6556-A81F-4B26-8BBF-77FF4DF52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0666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Earth’s Dynamic Cru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342900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 Learn how the Earth’s crust has slowly changed over ti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oon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 your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ing is Believing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ease look at the map up on the w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notice any patte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think they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riving force behind all of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tter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14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st Coast of S. America seems to fit into the We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thern Coast of Arabian Peninsula fits into North-East Coast of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there any evidenc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were a scientist, what would you look for to prove that these places were once connec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fact that the LOOK like they fit together good enoug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ainstorm, show me you are just as smart as any boring scientist out there!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766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Teachers are Idio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 the day, many students said, “Hey teacher, it looks like South America and Africa fit together.  Did they used to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cher would respond, “Of course not.  The continents don’t move, it is just a coinc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they were wrong.  And the kids were r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had NO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Bon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About It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of identical plant and animal species found on S. America and African Coa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 seeds too large to be carried by wind &amp; too fragile to survive ocean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emains were of a fresh water creature that would not have survived salt water jour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Mesosaur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Glossopter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ck Solid Evid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ck Formations match on opposite sides of the Atlant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untain Rang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acial Depo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22:57:56Z</dcterms:created>
  <dc:creator>Student</dc:creator>
  <dc:description/>
  <dc:language>en-US</dc:language>
  <cp:lastModifiedBy>Student</cp:lastModifiedBy>
  <dcterms:modified xsi:type="dcterms:W3CDTF">2008-10-21T03:11:20Z</dcterms:modified>
  <cp:revision>1</cp:revision>
  <dc:subject/>
  <dc:title>The Earth’s Dynamic Crust</dc:title>
</cp:coreProperties>
</file>