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8AE0B-B376-4211-A9F0-EE896D201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C832C-BE0B-4A4E-B34E-9D26DD73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27449-FB4D-4F0A-A8A9-1EFB7293E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8B17F-73DE-4F65-A4D1-19FEC634C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606A-4210-451B-BCDD-FC87D04A1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669C-5223-4BF9-89CA-317C7CFA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39C9-C6D5-43D3-9CF8-87C1C006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B18D-1B49-4DEA-A0F1-762E84E0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1BA5-0A58-4B1E-8ADE-A28FD1CA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23EE-A909-4BB7-9992-B3DD1D61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E7E8-482B-4E7F-9C35-98055D62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910C4-E495-48A2-A55F-E2514D57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25A2-67B9-457C-BB76-105A9988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42EF-8DD3-4548-8D7A-6B21870E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52D9-DD3E-4D1E-A41B-3D9BF0A6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9C7C-34F0-4E50-8BAA-A7A06D000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F45E-200D-4574-B4A4-1BCB2EF4F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1E7A6-191D-45F7-974C-3601B78B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127B4-98CB-430E-876C-217D4279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F3325-4DCF-4586-88F5-3595B884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05755-C54D-4D8E-B134-76F780A9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EC047-3423-4CA6-9EB0-61B3F91D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70B4D-A91A-41C7-96A0-D534B5E3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57D77-AEBC-4B4D-BB30-53195AB1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40CE-C939-4D90-B9AF-98F0830384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5D6E-82C0-4BB5-A4ED-F39D05200F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06668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Earth’s Dynamic Crus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800" y="3429000"/>
            <a:ext cx="6019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urpose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:  Learn how the Earth’s crust has slowly changed over time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soon!!!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 your ha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3049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eeing is Believing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lease look at the map up on the wal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 you notice any patter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you think they form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driving force behind all of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attern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1430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1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st Coast of S. America seems to fit into the West Coast of Afric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uthern Coast of Arabian Peninsula fits into North-East Coast of Afric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s there any evidenc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9907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you were a scientist, what would you look for to prove that these places were once connect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the fact that the LOOK like they fit together good enough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rainstorm, show me you are just as smart as any boring scientist out there!!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-7668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Teachers are Idiot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9144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k in the day, many students said, “Hey teacher, it looks like South America and Africa fit together.  Did they used to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eacher would respond, “Of course not.  The continents don’t move, it is just a coincid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they were wrong.  And the kids were right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y had NO EVID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0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Bones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About It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9144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ssil Evi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ains of identical plant and animal species found on S. America and African Coa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t seeds too large to be carried by wind &amp; too fragile to survive ocean journe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imal remains were of a fresh water creature that would not have survived salt water journe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Mesosauru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1976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ffffff"/>
                </a:solidFill>
                <a:latin typeface="Arial"/>
              </a:rPr>
              <a:t>Glossopteri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6801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3049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ck Solid Evidenc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ck Formations match on opposite sides of the Atlantic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100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untain Rang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100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al Deposi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100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lacial Deposi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22:57:56Z</dcterms:created>
  <dc:creator>Student</dc:creator>
  <dc:description/>
  <dc:language>en-US</dc:language>
  <cp:lastModifiedBy>Student</cp:lastModifiedBy>
  <dcterms:modified xsi:type="dcterms:W3CDTF">2008-10-21T03:11:20Z</dcterms:modified>
  <cp:revision>1</cp:revision>
  <dc:subject/>
  <dc:title>The Earth’s Dynamic Crust</dc:title>
</cp:coreProperties>
</file>